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EC3-A019-49E6-98DA-93A2F823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D00-58E4-4354-A120-7C3806D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038-1FE2-49B0-95C9-EE2672B8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77D-7C44-4DBE-843C-436384B7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BDD-D145-407B-A0D2-D06A4005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6EC-86EB-4C35-A355-37F2FB67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D21-41FC-492D-A418-AF7F3875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5D6-8835-45ED-929D-148CFBE2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8B8-6590-46C7-BA3D-AD73BB52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7C9-2C41-46C1-B79E-9163F7F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899-99D4-4BBC-A540-C650922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D6C2-D6DF-40B7-8AD6-2040B41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19F0-C2C2-4461-A616-9140DC68B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roquois Le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172200" cy="4227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105520"/>
            <a:ext cx="2333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itional Iroquois 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82040" cy="429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685800"/>
            <a:ext cx="754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ditional Iroquois Longho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22:42:05Z</dcterms:created>
  <dc:creator>tpagel</dc:creator>
  <dc:description/>
  <dc:language>en-US</dc:language>
  <cp:lastModifiedBy>tpagel</cp:lastModifiedBy>
  <dcterms:modified xsi:type="dcterms:W3CDTF">2010-09-08T23:00:26Z</dcterms:modified>
  <cp:revision>2</cp:revision>
  <dc:subject/>
  <dc:title>The Iroquois League</dc:title>
</cp:coreProperties>
</file>